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23A-1770-4914-BF3F-0FDD7D21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9ADB-09F9-46C9-B8C4-B8B7F273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429A-0AEF-4CC3-B86F-C2FE156F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D85-D1B8-470D-9A1C-ECB429AE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1BC-EE54-4B01-B368-550ED0A4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489-2F24-4392-A291-0CE694B5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A3A-28E3-4B5D-915A-19C1FBE0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6E3-1252-48D3-A5C0-16AA8589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F611-C5CE-4B01-A2FD-E6F2C282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E6F-CCA5-4AE2-8B5C-97943F7E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A54-86C5-4B72-80EA-57A92434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878-573A-4E9D-B565-43FBBE9C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2302-C877-4B33-936B-B8AC28EA1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120" y="914400"/>
            <a:ext cx="1600200" cy="6858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0" y="5410080"/>
            <a:ext cx="11430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7543800" y="1599840"/>
            <a:ext cx="0" cy="381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2438280"/>
            <a:ext cx="1143000" cy="68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6629400" y="1600200"/>
            <a:ext cx="45720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3124080"/>
            <a:ext cx="685800" cy="21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295280"/>
            <a:ext cx="16002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743200" y="1066680"/>
            <a:ext cx="3809880" cy="46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052720" y="1976040"/>
            <a:ext cx="466560" cy="9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429000" y="1371240"/>
            <a:ext cx="3048120" cy="152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3352680"/>
            <a:ext cx="3124080" cy="212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1430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981080"/>
            <a:ext cx="461880" cy="82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7524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4495680"/>
            <a:ext cx="16002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2560" y="3576240"/>
            <a:ext cx="695160" cy="9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257800" y="3119040"/>
            <a:ext cx="685800" cy="138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9528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34960" y="4255920"/>
            <a:ext cx="1143000" cy="685800"/>
          </a:xfrm>
          <a:prstGeom prst="ellipse">
            <a:avLst/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595160" y="1976040"/>
            <a:ext cx="237960" cy="229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3576600"/>
            <a:ext cx="228600" cy="69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4724280"/>
            <a:ext cx="4343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14600" y="1519200"/>
            <a:ext cx="4114800" cy="298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5638680"/>
            <a:ext cx="2286000" cy="685800"/>
          </a:xfrm>
          <a:prstGeom prst="ellipse">
            <a:avLst/>
          </a:prstGeom>
          <a:solidFill>
            <a:srgbClr val="dc2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200400" y="3576600"/>
            <a:ext cx="1440" cy="206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58672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4952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806560"/>
            <a:ext cx="1600200" cy="685800"/>
          </a:xfrm>
          <a:prstGeom prst="ellipse">
            <a:avLst/>
          </a:prstGeom>
          <a:solidFill>
            <a:srgbClr val="2300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86200" y="2805120"/>
            <a:ext cx="1828800" cy="231840"/>
          </a:xfrm>
          <a:prstGeom prst="line">
            <a:avLst/>
          </a:prstGeom>
          <a:ln w="9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1739880"/>
            <a:ext cx="434340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1968480"/>
            <a:ext cx="297180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00320" y="380880"/>
            <a:ext cx="65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hado Modules and Their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03:04:43Z</dcterms:created>
  <dc:creator>GMOD / NESCent</dc:creator>
  <dc:description/>
  <dc:language>en-US</dc:language>
  <cp:lastModifiedBy>GMOD / NESCent</cp:lastModifiedBy>
  <dcterms:modified xsi:type="dcterms:W3CDTF">2008-07-10T03:07:08Z</dcterms:modified>
  <cp:revision>1</cp:revision>
  <dc:subject/>
  <dc:title>PowerPoint Presentation</dc:title>
</cp:coreProperties>
</file>